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141-E9F2-4B8B-80B3-2EA250F3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B6F-112E-421B-BBEE-3D32F300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6A6-C79F-4958-A388-90FF2CA3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340-C5F8-4E3B-BDA7-ED758FB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EDF-A15F-48E1-BE4B-99978AC0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6F6-98EA-4198-818F-1D17BAEB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14B-66E6-4144-A7B3-8AFD4C7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06F-098B-49F1-80FC-15F6CDC0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BEC-CAB1-4E7E-A473-D489770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A09-DB32-46D6-A5B6-5C47F99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036-0726-45EE-8E2C-F4BB6AF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CDD-0C37-458D-B4B1-9BFB4CE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E1F-0F2B-413E-9B99-C401CA1E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981000"/>
          <a:ext cx="2303280" cy="3764160"/>
        </p:xfrm>
        <a:graphic>
          <a:graphicData uri="http://schemas.openxmlformats.org/drawingml/2006/table">
            <a:tbl>
              <a:tblPr/>
              <a:tblGrid>
                <a:gridCol w="503280"/>
                <a:gridCol w="360360"/>
                <a:gridCol w="287280"/>
                <a:gridCol w="431640"/>
                <a:gridCol w="289080"/>
                <a:gridCol w="431640"/>
              </a:tblGrid>
              <a:tr h="33660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P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me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8480">
                <a:tc rowSpan="20">
                  <a:txBody>
                    <a:bodyPr lIns="18000" rIns="18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HISTÓRIC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01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04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-07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10-2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04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07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10-2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01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-04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07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10-20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4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07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10-20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01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-06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-10-200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04292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83664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59280" y="981000"/>
          <a:ext cx="2592360" cy="1943280"/>
        </p:xfrm>
        <a:graphic>
          <a:graphicData uri="http://schemas.openxmlformats.org/drawingml/2006/table">
            <a:tbl>
              <a:tblPr/>
              <a:tblGrid>
                <a:gridCol w="505080"/>
                <a:gridCol w="576000"/>
                <a:gridCol w="503280"/>
                <a:gridCol w="504720"/>
                <a:gridCol w="503280"/>
              </a:tblGrid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OÑ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IE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.Est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16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m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59280" y="3284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o de índice de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84720" y="981000"/>
          <a:ext cx="622080" cy="3500640"/>
        </p:xfrm>
        <a:graphic>
          <a:graphicData uri="http://schemas.openxmlformats.org/drawingml/2006/table">
            <a:tbl>
              <a:tblPr/>
              <a:tblGrid>
                <a:gridCol w="622080"/>
              </a:tblGrid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s/es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1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9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24360" y="333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alores Históricos sin estacio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20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492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56000" y="242100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92360" y="836640"/>
          <a:ext cx="1841400" cy="5268960"/>
        </p:xfrm>
        <a:graphic>
          <a:graphicData uri="http://schemas.openxmlformats.org/drawingml/2006/table">
            <a:tbl>
              <a:tblPr/>
              <a:tblGrid>
                <a:gridCol w="330120"/>
                <a:gridCol w="432000"/>
                <a:gridCol w="287280"/>
                <a:gridCol w="288720"/>
                <a:gridCol w="503280"/>
              </a:tblGrid>
              <a:tr h="11232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12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E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CIÓN PLANE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8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rowSpan="20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CIÓN PLANES DESCONTAMINACIÓN / PRVENCIÓ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0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6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5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780000" y="404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alores Proyectados Si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1280" y="69228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3640" y="836640"/>
          <a:ext cx="525600" cy="5184360"/>
        </p:xfrm>
        <a:graphic>
          <a:graphicData uri="http://schemas.openxmlformats.org/drawingml/2006/table">
            <a:tbl>
              <a:tblPr/>
              <a:tblGrid>
                <a:gridCol w="525600"/>
              </a:tblGrid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4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1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3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4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7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8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4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3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4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635280" y="386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85264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es Proyectados Con Esta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844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X Coeficiente     Estacionalida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341360"/>
            <a:ext cx="144360" cy="136692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1773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álculo de Percentil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940360" y="3357720"/>
          <a:ext cx="504720" cy="276696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14256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 Norm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5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64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9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8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77080" y="3357720"/>
          <a:ext cx="503280" cy="280656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18828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cia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ámetro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3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2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2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7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99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6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0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4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780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3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4653000"/>
            <a:ext cx="215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4653000"/>
            <a:ext cx="21600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4:26:58Z</dcterms:created>
  <dc:creator>Jorge Ortiz</dc:creator>
  <dc:description/>
  <dc:language>en-US</dc:language>
  <cp:lastModifiedBy>Jorge Ortiz</cp:lastModifiedBy>
  <dcterms:modified xsi:type="dcterms:W3CDTF">2005-12-08T20:09:56Z</dcterms:modified>
  <cp:revision>7</cp:revision>
  <dc:subject/>
  <dc:title>Diapositiva 1</dc:title>
</cp:coreProperties>
</file>